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3312-6A3E-42E6-8F7F-6EA6BAE6DE2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F060-D299-4B97-B09C-63B4C3CC7AB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FB6F-DDCD-467F-8DBE-6BE1F8C4EED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CE1D-2884-4EC6-8C76-5E0549EB831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164E-F4BE-4058-8F85-796824A228E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DE0B-C569-4B9A-9CB9-B5E6E61E212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649E-C4EF-46D5-83B4-92A43ECA8CB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2432-0E1B-43CE-9BA4-F6E30497E34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1427-773D-4FE4-A0B2-A1C84FA7FF4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0840-75FB-4408-999A-6475AC67E15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5ED9-1A0A-4FDF-AFB9-611F2783E64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184F-C8F0-425F-A24B-CB40989128F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0678-BA2B-4419-8D20-E224BB0D867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448F-1E03-47D0-8E7B-F9378BF31D5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4271-CA01-4FF7-9A55-7BD1C1E9983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E4A1-5C26-4CFD-BC37-04BA109C52A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F805-BD28-4530-91C9-E1911746C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0A3F-4C60-41DE-8146-72E3AB8D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0E1E-8701-46F2-856C-FD6FFFE0D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8C55-5637-42EA-8DD7-34F7B6172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BB2C-F122-4D51-B68B-5EAD5A24D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DF9D-B951-48DF-A8E3-9A374C28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B42A-3E62-4397-B84F-8E9C76F0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6517-4523-4336-983B-466DD977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E174-1170-4DC2-BE48-E29A9963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9A45E-D819-4688-9FE8-108CF7F0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59E6-66CF-4AAE-B923-FD159BAC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879F-DD50-48B3-AB95-4D28BD54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4FA5-8F43-480E-8722-B8F70B2D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41181-FE90-4713-B38A-780CA550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0191-9485-4376-83AE-A066BF5E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6ADE-5B3A-41EE-9E4B-827309F1C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AD24B-B55B-4CE5-9B11-F0E1988A4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7DC8-4711-4420-B34C-014D5CA0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9F54-613B-4DA4-934B-DD19643E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006B-922F-417A-9BB9-95F6158C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B990-6D48-42A2-8758-29FCDEED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5019-B218-4C02-B4C6-3F62C2FE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1114-F139-4A37-933F-893EFEF7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D062-8AF4-4D67-84FF-0EF76476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20C2-F0D2-4D68-AA80-2CECA06AC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0F67-BA25-4B76-8BF7-06665518D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356920"/>
            <a:ext cx="61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cc"/>
                </a:solidFill>
                <a:latin typeface="HY울릉도M"/>
                <a:ea typeface="HY울릉도M"/>
              </a:rPr>
              <a:t>사회복지의 사상과 역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5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식민시대의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1476360" y="1268280"/>
            <a:ext cx="669276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공공부조제도의 시행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조선의 경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부조교정」이 최초의 공공부조법이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4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조선구호령」에 의해 대체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의 경우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87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최초의 구빈법인 휼구규칙이 제정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 구호법이 제정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0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실업문제와 취로사업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: 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궁민구제토목사업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에서 구호법이 시행되기 시작하던 시기에 조선에서 시행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궁민구제토목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주목할 만한 사업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시행된 농촌의 인프라 정비와 취로사업이라는 두 개의 목적을 가진 사업이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선인 노동자는 일본인 노동자의 절반 정도의 임금을 받는 등의 차별처우가 여전히 있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사업 자체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간의 단기사업이었다는 한계가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3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1476360" y="1268280"/>
            <a:ext cx="6692760" cy="49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구빈행정의 정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이후 구휼 및 자선사업은 총독부의 지방국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방과에서 담당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내무국에 사회과가 신설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과가 담당하는 사회사업의 범주에는 사회교육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임시적 사회구제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반사회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보호사업 등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포함되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사회과는 내무국에서 학무국으로 개편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때 종래의 구빈방빈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건진료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아동보호부문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노동보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농촌진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자력갱생운동 등의 사회교화사업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급속하게 확장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6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476360" y="1268280"/>
            <a:ext cx="669276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각도에 사회과가 신설되어 전국적인 전달체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만들어졌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194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사회과에서 노동행정사무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분리하여 노무과가 신설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체제가 해방 때까지 이어졌고  한국사회복지전달체계의 기초가 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9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476360" y="1268280"/>
            <a:ext cx="669276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국가시설운영과 민간시설보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상의 공공전달체계와는 별도로 총독부 직속사업으로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생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의해 제생원이 설치되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육부와 맹아부로 나누어서 아동과 장애아동을 보호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개항 이후 조선에는 선교사들이 중심이된 다수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시설이 설립되어 있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복지실천에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해서는 정부보조금이 지급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조금제도를 활용하여 민간에 복지사업을 위탁하게 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형식은 사회복지시설의 운영에 국한된 것이 아니라 일시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사업에 있어서도 행해짐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2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476360" y="1268280"/>
            <a:ext cx="669276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방면위원제도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도의 기원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오카야마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세고문제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오사카부방면위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근거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은 민간독지가의 신분으로서 빈곤자의 생활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사하고 필요한 원조를 제공하였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배경에 자본주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모순에 의한 사회불안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의 임무는 지역 내의 빈곤생활자 조사를 위시하여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와 관련된 제반 조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476360" y="1268280"/>
            <a:ext cx="66927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사회복지의 기반과 유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커밍스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2012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는 일제가 남긴 것으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비교적 잘 발달된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교통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세계시장시스템과 조선을 연결시킨 것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근대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술을 가진 인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고도로 체계화된 관료조직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들고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중에서도 중요한 것은 조직된 관료조직과 기본교육의 보급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제도의 기반에 관한 부분에서는 호적제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확립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백정의 신분도 호적을 갖게 됨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미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영역에서는 자본주의적 경제질서가 강화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유재산제도가 정착되어 갔으며 사법의 영역에서는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법치적 문화가 강화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476360" y="1268280"/>
            <a:ext cx="66927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잔여적 복지모형과 사회복지의 새로운 시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복제실천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바람직한 복지실천의 모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시하지 못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결국 그것을 통하여 선별주의적이고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잔여적인 복지모델을 한국 사회에 이식하는 결과를 가져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복지제도의 발전이라고 볼 수 있는 변화의 조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에 대한 새로운 대처방식이 시도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문제에 대한 과학적인 조사가 진척되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빈곤이나 장애인문제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주택문제 등에 관한 기초자료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축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20920" y="2572920"/>
            <a:ext cx="613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HY울릉도M"/>
                <a:ea typeface="HY울릉도M"/>
              </a:rPr>
              <a:t>Thank you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-Next-</a:t>
            </a:r>
            <a:r>
              <a:rPr b="0" lang="ko-KR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6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미군정기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전쟁과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2" name="제목 1"/>
          <p:cNvSpPr/>
          <p:nvPr/>
        </p:nvSpPr>
        <p:spPr>
          <a:xfrm>
            <a:off x="1432080" y="360360"/>
            <a:ext cx="7407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룰 내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부제목 2"/>
          <p:cNvSpPr/>
          <p:nvPr/>
        </p:nvSpPr>
        <p:spPr>
          <a:xfrm>
            <a:off x="1432080" y="1700280"/>
            <a:ext cx="75895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속성과 단절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1476360" y="1268280"/>
            <a:ext cx="669276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 직전의 조선사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시기 민중의 생활은 극도로 피폐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삼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三政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문란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紊亂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이 시대의 사회상을 적나라하게 보여주며 농사에 대한 세금과 군역의 의무에 관해서 관리들은 온갖 구실을 붙여서 법으로 정해진 세금 이상의 부담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에 지웠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반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의 피를 빨아먹는 기생충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라고 표현한 서양인 여행자의 표현은 오히려 자비스러울 정도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476360" y="1268280"/>
            <a:ext cx="669276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근대화론과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개발 없는 개발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의 검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9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을 전후하여 한국에서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근대화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기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논의는 식민지수탈론자들에 의한 역사왜곡을 지적하고 지나친 그들의 민족주의적 관점을 비판하여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안이하고 감정적인 역사연구의 경향에 경종을 울렸다는 점에서는 의미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있는 논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476360" y="1268280"/>
            <a:ext cx="669276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사회복지의 시각에서 볼 때 식민지근대화론자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   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주장에 받아들이기 어려운 논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리주의적이라는 점에서 비판의 여지가 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산업혁명에 관한 토인비와 아슈톤의 논쟁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상시키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의 상태는 반드시 통계자료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해서는 증명하기 어려운 무엇이 있다는 중요한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실을 그 논쟁이 상기시켜주기 때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476360" y="1268280"/>
            <a:ext cx="669276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지조사와 그 영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일제는 막대한 자금과 인력을 투입하여 식민지조선에 대한 대대적이고 철저한            토지조사를 실시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토지조사의 목적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식민지를 상대로 한 토지조사이므로 그 것이 넓은 의미에서 수탈을 위한 조사였다는 것은 명약관화한 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소유를 명확하게 하고 소유자에게 법적인 권리를 부여하는 것은 근대자본주의의 근간을 이루는 사유권 절대의 원칙이 실현된 것으로 볼 수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현실적으로 볼 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조사는 식민통치의 재원이 되는 토지세를 확보하기 위한 조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1476360" y="1268280"/>
            <a:ext cx="6692760" cy="22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빈곤의 심화와 소작농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경제적 배경으로 발생하는 빈곤으로서 중시할 것은 소작농의 급증과 도시빈민층의 형성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 한국의 소작농은 세계에서도 유례를 찾아보기 힘든 극도의 착취와 비참한 생활을 하였다고 지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73771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막민문제에 관하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 이후 도시빈곤의 상징과 같은 것이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존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은 단순한 빈곤층의 생성이라는 것뿐 아니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 사회의 전통적인 주거의 열악성을 상징하는 것으로 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토지조사가 끝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가 되면 몰락한 농민이 농촌을 떠나게 되면서 토막민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집단주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가 형성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476360" y="1268280"/>
            <a:ext cx="66927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시대의 시기구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①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무단통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10~19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문화정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20~19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륙침략병참기지기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은사금이라는 사회복지 재원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은사금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직접 사업비로 사용하는 것이 아니라 그것을 기금으로 삼고 그 이자수입으로 사업비를 충당하는 형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사금의 용도 중 가장 큰 몫을 차지하는 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수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授産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과 교육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근구제의 항목인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항목은 사회복지사업과 직접적으로 관련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4:24:23Z</dcterms:created>
  <dc:creator>LG</dc:creator>
  <dc:description/>
  <dc:language>en-US</dc:language>
  <cp:lastModifiedBy>LG</cp:lastModifiedBy>
  <dcterms:modified xsi:type="dcterms:W3CDTF">2014-03-18T07:35:34Z</dcterms:modified>
  <cp:revision>539</cp:revision>
  <dc:subject/>
  <dc:title>사회복지의 사상과 역사</dc:title>
</cp:coreProperties>
</file>